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DFD-BDA5-4BA2-BDF4-49A1E899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C11-9CDC-43F8-BA46-DA8D246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D6ECA-C60A-4F36-B08A-8C4CF72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C61E-2BFE-4F25-A7AC-BF0EEC3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A359-07D9-43CB-B259-9BF906B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E3430-2316-4C29-B04B-0C5C5D25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CE8BB-AE71-410A-9861-8EE6E0D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B5BAC-B802-4676-A352-C427BDD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E09FE-0768-42BF-B2D5-892F121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487F9-2AC7-4E9E-85EA-FDB95EBC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7B52E-1E52-4CA7-8A75-F3AAAB3B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30999-6635-4C27-A4A4-906763A6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B71-B34D-4315-A36E-02A28C5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E986D-EC4A-4F0E-94EA-3AA2EEF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C2BE1-7F83-405F-BCB7-FEBB41A2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7FDB5-8941-4184-901F-ACC598D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977B6-D026-48A2-A447-4ECE7FF8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415EB-C00A-4DD6-8068-7F8454F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7CC3-9539-4B87-9711-69B6B17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4CE54-4418-4E9A-A381-6E9D504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CE2D9-0083-438A-9425-A1C1167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5D2A-F17A-4E23-9562-E595276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9CFC5-E1F3-4AAD-8926-660C8CAF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F43-76B3-4B99-BDF2-12F6C841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EFAD-97FE-4956-BD21-1B0A3EC7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217EA-326A-4342-A6A2-060A920B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C9B9B-0527-4F09-9459-97BBE457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92C9A-62D3-4514-876C-5453F50E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2BD54-331D-4D6C-AE18-22A0E37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B4BA-1497-43E0-9164-8D4DC90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79A4-C52B-4628-819B-57F6248E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4C314-ED5F-4106-8422-96A34163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DDD43-268A-46B8-AC69-752FC0E7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E9C1-C93C-4EB6-95DA-D5D6CB98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E791-FAAE-46DF-9E38-89543BA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5C9E2-2BB3-4417-8430-00498D69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C05A0-0FC8-468A-84B4-5F160B6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20438-0059-40E3-9F0C-2347035F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9932B-A813-44F3-A1B1-EC30A2C3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1074C-EE8D-4B31-87C8-D898006F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D1AC1-A734-428A-9127-6C277CD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3C5CE-1786-4543-80C8-7802E1DF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48957-5F60-4377-9FDD-669EFABE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7A1DB-D0B1-4869-A29A-7484F05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51088-AC47-4769-A44C-6368F2D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E47-EEB4-47D2-9CDB-C2AA948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A4155-32A2-4B6D-80D2-EE31B8E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AB9A-F200-4167-8364-9E7BD5A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43EB-A0C0-46DC-AC40-3E23E626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6B5FF-8424-4EFD-969F-EF60389E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B2E8-703F-433C-928C-7ECDABA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0C802-DCEA-4174-84E9-9728D552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5FB1C-A015-4F64-8879-8E540C3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3A8AB-4663-437A-8DE6-D4498E62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95827-82CC-4CD1-BB0A-08D41ED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9A66C-103A-4E44-A5F5-C2CBD05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228-FDDD-4E65-8BA1-7301959D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88F71-5C0E-49E2-AAF0-EF47A200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1F64B-7290-48A1-9882-98E7C429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65EBD-AC66-42E3-8A72-C6707D0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945D5-087A-4CCB-BC0F-5589F68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3426E-2487-4F1A-9A0F-44C13BD9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89CBE-CE07-47B5-A6B8-2F4A453B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A6A9F-FED7-45EA-979B-7B13F7E6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6BB51-6D51-41D9-9C16-9E44931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67948-690E-4C8F-8D18-EE02A8E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261A8-8A1D-40E5-A849-E81AC21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C27C-B12E-4E12-A117-C07A6D3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5902E-8915-4161-A9AB-069C47D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A96D1-68D0-4967-8D30-0A49A53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4F084-5D08-42A1-BE1B-0165BA9E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6960E-FE60-43BB-94F8-0B3610A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B1C80-BC0A-4EAF-A258-96D053F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C652F-25FC-4B1F-8453-3567B53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F20D6-18E0-4608-B0C6-39D74FE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3A382-30ED-45A2-8B76-AB631490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2938E-B030-4F2D-9144-90C87CB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593DC-3A5F-4DCB-992B-2398E81D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166-4580-4A4E-9ECF-177726A6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B9749-0309-4921-B3EC-B6400C1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E8FE6-43CD-4A74-9659-91886DB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3B914-92D2-4CAD-B0CE-53B023A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1A737-4B89-4168-9F49-F93D7DA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0CE42-FD43-4043-A545-5B5CB619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FE3C7-13C4-480E-8F9F-73CE1A0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0B92D-6F52-4B05-851D-BDC0F3B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B5090-4ADD-4D5C-9A11-1E217CB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5E587-4DF6-451E-8AFB-D6CD6CF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AF2D4-C980-4EF3-A0E8-6C619C53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325C-2BE2-4ED6-8088-8D9FB190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5A052-2FC8-4BA9-996E-2EC8D4E8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BBB51-3814-48A9-A8F6-B9D5D5B1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C4CAF-294E-479C-83EA-4AF8462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859E4-0E6F-474C-9B5A-B3BF522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48D07-5DA7-4FBE-B028-130D218E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C1C6C-79BF-4128-9163-5855F923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68F28-A0C9-4262-B7FC-2B55950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57D7A-0AE9-4020-AC90-960DC1B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B9764-046C-4FC6-A167-5428B38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1E471-B02F-4E67-ACF8-79057F7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CB61-6F41-4D34-87E9-D128CA8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2BCC6-6090-4042-B8F4-B02CE44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F9DCD-E4EA-45A9-AB38-E9566B63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35D58-B2CA-459D-8835-EEA50A2A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4C9CE-2A7A-4B1F-8525-8990591D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FD0EE-7125-46CB-96AD-59D2BDAF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85F9B-2441-455E-893D-5834269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95D90-5DDE-4030-943C-57C28D5F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05C6F-1752-4E8C-BD51-622D7C8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3B765-F840-4D9F-9621-4D651207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AC7AE-F56A-488F-9F17-D817C02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C55-FE73-4B72-AF22-67711A9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4E9-6041-4F53-96EF-C3DD2B6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FA6AF-E339-400A-863C-D6EC023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18984-EF15-4A34-A724-450DCB1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BFB44-29DF-4211-B896-04941EE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46D8C-76D7-44B6-838B-D5EEB42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020CA-5F63-4E17-9298-B081C2AD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91DD4-0889-425C-AE1B-AA5926EB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DD96E-9F20-4830-8E04-95661A2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3ACA1-2BA9-426A-9C93-68F4D00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52A37-614E-4CE7-A6A6-028EA9C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B78FE-8EAB-40DF-9467-9453EA3A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82A-A8B4-4D32-B964-FED1436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CAA17-F274-482D-96C8-F212C4E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AE51C-8383-4820-B88C-3847B07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3FF07-0191-4CC5-B8D9-F01B86A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30452-CED0-4B08-85FF-5697ABD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18320-A207-424E-BE9F-0FD7542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1BAC5-02BA-464C-A114-D2617DF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42E3D-C20E-4D80-B8A5-11E0A727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F46-715D-4914-90FD-C24F86C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15F-987A-438C-9142-D19BB9CE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9A6C-635B-4AC2-A5A1-3D800DEE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18EC-4259-41B8-8E52-8B9AB50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71F0-091A-4C2D-A070-E179830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75C9-8F01-4225-84BC-78D1857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2E61-1F4E-4C88-B959-2BCCC5A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1280-AEB1-487D-BBA3-E363AF0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B8D-702D-4F7B-B929-3B8E287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390E-C8C7-43C6-B9F3-5CE8643A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BDE4-228B-4031-8830-B06B25E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6107-7E05-43F8-A3F4-6EEDE4B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0192-85C5-4121-A702-F3C7E6F3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BCA0-057B-46B5-82DD-1BBEB9BF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B17C-80C2-4D74-A6A5-10E8BE3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8C7F-C38B-47B7-B394-88927F9D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E40D-BEE8-443E-B1A5-F2FEF3D5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D21C-71DF-412B-9F4E-3C1513BB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25D7-422F-420F-898C-8F47C19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EBE-C0DA-4624-9A4C-C6A3CF22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F955-2A68-445C-A55D-4BEFDFB7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BCBB-2925-4D0B-8E59-8ADE72C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C798-BA01-4747-8833-5467D001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B554-8724-4CF6-8010-A982E09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C38D-EC5B-4E28-BA07-5C814D2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A1D1-A055-4A9D-8762-F41A56D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99A3-B203-4B97-B72B-9C42EE33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A791-544E-4AB0-B6B4-5468112C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EB3A5-C6F4-4624-80AE-86DBA485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9AE1D-398B-46D8-A594-FD2923AB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57B-EABC-4F06-9141-5963B40D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FB42-3273-4FE4-9D8A-E9FB18F5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5BDA-6E93-41D8-A828-DBB88CA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7410-CAFD-4E3A-BAF5-CF7A122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CE9D-3003-4E5D-BF27-3CD33553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21FB-A6D4-4F1E-AA06-0B651101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D087-346F-4AB5-A1FE-CDFBE79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EDC5-9FDA-4296-927A-27E8E46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5918-3128-460B-A8BA-707DD45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35C9E-B68B-42D8-AC65-CB8D059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C004-4B51-4F50-B011-D50EF594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D37-7BA9-43A0-B742-4EF0AAF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08A3-AEE6-45E4-9B6D-990DB53C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B8CD-2203-476E-8684-691F4528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E305B-DE2B-4730-87DC-7ED2DD80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1411-2F1D-4B0D-BD98-DE2F8A5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C6DC-73BD-4E82-98A6-DB095217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D5D3-734D-43A7-9D92-6A3AAB73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9517-CB3F-4566-86F3-A60DB6AF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4167-FEE8-4902-ADF8-50E5843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BD77-B10B-4AA3-BED4-9BFA586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7D57-7E97-4E33-8671-DD3C550C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1C8-2FBD-4E25-8190-BFD2E70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6AEF-03CE-4E5D-8B28-242EE6A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D5BED-C47C-4ADF-AAEF-A1B9DFC3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65EA-6A3F-45F8-A3B4-B8828D59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FEE8-7D8E-4D2B-A298-D8F39580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47AD-2113-42C9-856E-63442575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50BF-14F0-4EE7-8898-800F501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E303-426A-4F0A-BA72-63CA02C6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CC33-0A04-41E5-95C7-6B417E1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5F47-6A85-4E6D-9815-9EB9651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28CD-A4CF-4B8F-93A0-05BED16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16D-E440-4F81-BF1E-3967C9E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9A81-38F3-43F9-875B-78C04A7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597F-1D1F-4530-B732-B5740AE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68C0-AF62-4101-8AF1-F8FDECE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104E-F2FD-4C84-A218-3827739E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26F3-EFA1-400A-B90D-2E370E6C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8416-53AE-4660-A91C-6BDE3D75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6D71-EEF2-4187-8500-732952D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EC49-5913-4DB3-A3AE-A44DC45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39AD-217D-4BD2-97D3-FE769C1B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C01E1-177C-4C71-8897-5B81B733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C1E-9A62-4D0D-A9A7-C679C02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622DD-7A2A-47FC-A0EC-F34E978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873BF-E785-44E1-8E7D-C5808DA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6CB8-99D8-4733-A08B-2D5B5D3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C833-87B9-4F06-BBC4-7004EB7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5DE5E-E3BA-4963-A9FF-23D9D5C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E7A0-ECE0-4AC4-A19A-14508645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D25DB-C7CA-4AE2-8468-CF441257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C39A-AB60-4AA7-A996-3AD14D62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64F2-99AC-4414-BD22-E1DFE97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0A70B-25A2-47D1-ABBA-40DA7DC2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16D-C30C-4345-AC95-2039830BFF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48E8-9B51-42A2-93D4-6A9654F433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277-E8D7-4750-9AE8-33018BFAE1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4F1E-A2BD-491C-ABA9-D4EDC7DB9B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3A5-6CE3-4EDD-8F9A-88D5D2993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6733-6290-4212-A916-14201F26E8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1881-B91A-441D-8E1C-2A2D68C3E7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CB6-5EEC-43E6-8CF5-1FDBF7BBEC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BC0E-7E64-482A-A793-C4075AAE7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8E8-110F-492D-9D06-D347D62638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3ED9-2F15-4925-A802-950EA233EF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558-DE31-4912-AFE2-167599E0A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7CED-73C0-49D0-BF54-CE88F658A7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8CED-936E-438C-BE53-A9D6352A0C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EA3-A2BA-481A-8251-B0A39EDCD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BB0-F530-48E4-B57B-B47C454E46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C46-C556-46E2-A9AE-FC21A8F790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CB5D-B619-4E2F-AB30-DB1E2267E3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Date Placeholder 1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551-9DB0-4736-A745-F012299B2AA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6B7F-E285-434E-9625-7FC7BFE714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Tw Cen MT"/>
              </a:rPr>
              <a:t>НАСТАВНА ЈЕДИНИЦА БР. 14</a:t>
            </a:r>
            <a:br>
              <a:rPr sz="2900"/>
            </a:br>
            <a:r>
              <a:rPr b="1" lang="sr-CS" sz="29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br>
              <a:rPr sz="2900"/>
            </a:br>
            <a:br>
              <a:rPr sz="2900"/>
            </a:br>
            <a:r>
              <a:rPr b="0" lang="sr-RS" sz="2900" spc="-1" strike="noStrike">
                <a:solidFill>
                  <a:srgbClr val="000000"/>
                </a:solidFill>
                <a:latin typeface="Tw Cen MT"/>
              </a:rPr>
              <a:t>ОСНОВНИ ПРИНЦИПИ МЕДИЦИНЕ ЗАСНОВАНЕ НА ДОКАЗИМА И ЊИХОВА ИМПЛЕМЕНТАЦИЈА У ЈАВНО ЗДРАВСТВЕНИМ ИСТРАЖИВАЊИМ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АХТЕВА ВЕШТИНЕ ОД ЛЕКАРА И  ФАРМАЦЕУТА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 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ИМЕНУ ОДРЕЂЕНИХ ПРАВИЛА ЗА ЕВАЛУАЦИЈУ ДОКАЗА ИЗ ЛИТЕРАТУРЕ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19F3-6A43-4EF8-9F6B-70FD58F39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533520" y="20574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ВАЛИД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КЛИНИЧКУ ЗНАЧАЈ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ТАКВИХ СТУДИЈА, И ОДБАЦИТИ ОНЕ КОЈЕ НАС ВОДЕ НА ПОГРЕШАН ПУ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A0B-E7A4-4BC5-BF8C-59074BA703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w Cen MT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МОРА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РАНДОМИЗИРАНА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ДВОСТРУКО СЛЕПА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(ТЈ. НИ ИСПИТИВАЧИ, НИ ПАЦИЈЕНТИ НИСУ ЗНАЛИ КО ПРИМА ПЛАЦЕБО, А КО АКТИВНУ КОНТРОЛУ);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КОНТРОЛНА ГРУПА И ГРУПА КОЈА ПРИМА НОВИ ТРЕТМАН МОРАЈУ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ПО СВЕМУ СЛИЧНЕ НА ПОЧЕТКУ СТУДИЈЕ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, И МОРАЈУ СЕ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ТРЕТИРАТИ НА ИСТИ НАЧИН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СВИ ПАЦИЈЕНТИ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778-EEE5-4E4E-8A85-4218D62CA0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НАЧАЈНОСТ КЛИНИЧКЕ СТУДИЈ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2000" spc="-1" strike="noStrike">
                <a:solidFill>
                  <a:srgbClr val="000000"/>
                </a:solidFill>
                <a:latin typeface="Tw Cen MT"/>
              </a:rPr>
              <a:t>БРОЈ БОЛЕСНИКА КОЈЕ ТРЕБА ЛЕЧИТИ НОВИМ ЛЕКОМ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ДА БИ СЕ ИЗБЕГАО НЕЖЕЉЕНИ ИСХОД КОД ЈЕДНОГ ОД ЊИХ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(</a:t>
            </a:r>
            <a:r>
              <a:rPr b="0" lang="sr-Latn-CS" sz="2000" spc="-1" strike="noStrike">
                <a:solidFill>
                  <a:srgbClr val="ff0000"/>
                </a:solidFill>
                <a:latin typeface="Tw Cen MT"/>
              </a:rPr>
              <a:t>NUMBER NEEDED TO TREAT -NNT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AAC-EF10-44C7-A4C7-41DACF0BC2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ИНТЕРПРЕТАЦИЈА РИЗИК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720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1     </a:t>
            </a: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NNT=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REDUKCIJA APSOLUTNOG RIZIKA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1DCE-5D84-4EED-A4AB-1E21E7E830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1295280" y="27432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55680" y="4800600"/>
            <a:ext cx="87627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8"/>
          <p:cNvSpPr/>
          <p:nvPr/>
        </p:nvSpPr>
        <p:spPr>
          <a:xfrm>
            <a:off x="2590920" y="5334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380880" y="6095880"/>
            <a:ext cx="8001000" cy="457200"/>
          </a:xfrm>
          <a:prstGeom prst="rect">
            <a:avLst/>
          </a:prstGeom>
          <a:solidFill>
            <a:srgbClr val="e34b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304920" y="3505320"/>
            <a:ext cx="7696080" cy="974160"/>
          </a:xfrm>
          <a:prstGeom prst="rect">
            <a:avLst/>
          </a:prstGeom>
          <a:solidFill>
            <a:srgbClr val="aa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МАТРА СЕ ДА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ЗНАЧАЈАН ЕФЕКАТ ПОСТОЈИ КАДА ТРЕБА ЛЕЧИТИ МАЊЕ ОД 15 БОЛЕСНИ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954-2E61-4365-AEF6-A25874BF28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ДА БИ СТУДИЈА ПРОГНОСТИЧКОГ ФАКТОРА БИЛА ВАЛИДНА, ОНА МОРА ДА ПРАТИ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РЕПРЕЗЕНТАТИВАН 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УЗОРАК ПАЦИЈЕНАТА, КОЈИ ЈЕ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ВЕЛИКИ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ДУГО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 ДА СЕ ВИДИ КАКАВ ЋЕ БИТИ ИСХОД БОЛЕСТИ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34D-DFDC-4139-B3EA-410BB72252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ЛИНИ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АЈ С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ЗАВИСНО ОД ВРСТЕ СТ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МЕТОДОЛ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ОМ ПОГЛЕД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А БИЛА ТИПА КЛИН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К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ЛИ КО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РТН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ТРЕБА ВИДЕТИ КОЛИКИ ЈЕ РЕЛАТИВНИ РИЗИК ОД НАСТАНКА Н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ЉЕНОГ ДЕЈСТВ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ОН В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ОД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3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РЕЗ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ЛТАТ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МА ПРАКТ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НОГ СМИСЛА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69F-21B5-435E-83BF-4D2EAFC238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848" name="Object 4"/>
          <p:cNvGraphicFramePr/>
          <p:nvPr/>
        </p:nvGraphicFramePr>
        <p:xfrm>
          <a:off x="762120" y="2611440"/>
          <a:ext cx="7848360" cy="23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1440"/>
                    <a:ext cx="7848360" cy="231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3ED-B826-40E0-90CB-12163D5E86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ОРЕД ОДНОСА МОГ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ОСТИ И РЕЛАТИВНОГ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РИСНО ЈЕ ОДРЕДИТИ 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ПСОЛ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ТНО ПОВЕ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ЊЕ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О ЗАПРАВО З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100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ЈЕНТКИЊА ТРЕБ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Н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ИМА ВАЛПРОАТ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А БИ СЕ КОД ДЕТЕТА САМО ЈЕДНЕ ОД Њ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ЈАВИЛЕ АНОМАЛИЈЕ МОЗГА НА Р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(100/1 = 100)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8C8-B878-418F-93CB-190D7B00C6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ИНДИВИДУАЛНО КЛИНИЧКО ИСКУСТВ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СЕ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МОРА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BEC5-0323-482F-B202-6050E730F8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ОВАКВУ ВЕЛИЧИНУ, КОЈА ПРЕДСТАВЉА </a:t>
            </a: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РЕЦИПРОЧНУ ВРЕДНОСТ АПСОЛУТНОГ ПОВЕЋАЊА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УМБЕР НЕЕДЕД ТО ХАРМ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ИЗ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МО 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БОЉЕ 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МО РАЗ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ЕТИ КАКВОМ СЕ ЗАПРАВО РИЗИ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ЗЛ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ЈЕН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ЗИМ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ОД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НИ ЛЕ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D2F-0EC8-4B41-B664-935136CBEB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F8B-3D83-4B84-BB41-D9EB41DA64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sr-CS" sz="31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1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ATIENT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ОД ПАЦИЈЕНАТА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&gt;70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СА ИМ ,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АЛИ ХОЛЕСТЕРОЛ ЈЕ У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НОРМАЛНИМ ВРЕДНОСТИМА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NTERVENTION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ЕБА ДА СЕ УКЉУЧИ И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ЕРАПИЈА СТАТИНОМ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OMPARISON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АО ДОДАТНА ТЕРАПИЈА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UTCOME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ЈЕР СМАЊУЈЕ МОРТАЛИТЕТ ИЛИ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МОРБИДИТЕ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EC3-0492-45A5-940B-37A76FD734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w Cen MT"/>
              </a:rPr>
              <a:t>HEART PROTECTION STUDY  </a:t>
            </a:r>
            <a:r>
              <a:rPr b="0" i="1" lang="en-GB" sz="3100" spc="-1" strike="noStrike">
                <a:solidFill>
                  <a:srgbClr val="000000"/>
                </a:solidFill>
                <a:latin typeface="Tw Cen MT"/>
              </a:rPr>
              <a:t>(LANCET 2002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STATIN THERAPY OFFERS A 33% REDUCTION IN FURTHER CHD EVENTS IN HIGH RISK PATIENTS </a:t>
            </a:r>
            <a:r>
              <a:rPr b="1" i="1" lang="en-GB" sz="2700" spc="-1" strike="noStrike">
                <a:solidFill>
                  <a:srgbClr val="000000"/>
                </a:solidFill>
                <a:latin typeface="Tw Cen MT"/>
              </a:rPr>
              <a:t>EVEN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EN CHOLESTEROL NORMAL OR LOW</a:t>
            </a: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НАШЕМ ПАЦИЈЕНУ- ПЕТРУ ПЕТРОВИЋУ </a:t>
            </a:r>
            <a:r>
              <a:rPr b="1" lang="sr-CS" sz="2100" spc="-1" strike="noStrike">
                <a:solidFill>
                  <a:srgbClr val="000000"/>
                </a:solidFill>
                <a:latin typeface="Tw Cen MT"/>
              </a:rPr>
              <a:t>ТРЕБА</a:t>
            </a: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 ПРЕПОРУЧИТИ УКЉУЧИВАЊЕ СТАТИНА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1D7-C2D1-411E-99D6-29C011A797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5DE4-D0E9-4519-8262-2AD4260BA8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7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7DF-81C0-4A72-8D00-6DB6B91418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КОРАЦИ У СПРОВОЂЕЊУ 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КРИТИЧКА ОБРАДА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ФОРМУЛИСАЊЕ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ВЕРА ПРИМЕНЉИВОСТИ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ИМЕНА РЕЗУЛТА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ЦЕНА ЕФЕКАТА 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ЗД У ПРАКС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C29-C0E0-42DA-8061-541BD887EC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Tw Cen MT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7" name="Diagram 7"/>
          <p:cNvGrpSpPr/>
          <p:nvPr/>
        </p:nvGrpSpPr>
        <p:grpSpPr>
          <a:xfrm>
            <a:off x="3929040" y="1885680"/>
            <a:ext cx="4876920" cy="3926880"/>
            <a:chOff x="3929040" y="1885680"/>
            <a:chExt cx="4876920" cy="3926880"/>
          </a:xfrm>
        </p:grpSpPr>
        <p:sp>
          <p:nvSpPr>
            <p:cNvPr id="788" name="_s1028"/>
            <p:cNvSpPr/>
            <p:nvPr/>
          </p:nvSpPr>
          <p:spPr>
            <a:xfrm flipH="1" flipV="1">
              <a:off x="5164560" y="363276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_s1029"/>
            <p:cNvSpPr/>
            <p:nvPr/>
          </p:nvSpPr>
          <p:spPr>
            <a:xfrm>
              <a:off x="3929040" y="297828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_s1030"/>
            <p:cNvSpPr/>
            <p:nvPr/>
          </p:nvSpPr>
          <p:spPr>
            <a:xfrm flipH="1">
              <a:off x="5621400" y="439020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_s1031"/>
            <p:cNvSpPr/>
            <p:nvPr/>
          </p:nvSpPr>
          <p:spPr>
            <a:xfrm>
              <a:off x="4618440" y="475344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_s1032"/>
            <p:cNvSpPr/>
            <p:nvPr/>
          </p:nvSpPr>
          <p:spPr>
            <a:xfrm>
              <a:off x="6738120" y="439020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_s1033"/>
            <p:cNvSpPr/>
            <p:nvPr/>
          </p:nvSpPr>
          <p:spPr>
            <a:xfrm>
              <a:off x="6848280" y="475344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_s1034"/>
            <p:cNvSpPr/>
            <p:nvPr/>
          </p:nvSpPr>
          <p:spPr>
            <a:xfrm flipV="1">
              <a:off x="6968880" y="363492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_s1035"/>
            <p:cNvSpPr/>
            <p:nvPr/>
          </p:nvSpPr>
          <p:spPr>
            <a:xfrm>
              <a:off x="7539480" y="297828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_s1036"/>
            <p:cNvSpPr/>
            <p:nvPr/>
          </p:nvSpPr>
          <p:spPr>
            <a:xfrm flipV="1">
              <a:off x="6366600" y="290304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_s1037"/>
            <p:cNvSpPr/>
            <p:nvPr/>
          </p:nvSpPr>
          <p:spPr>
            <a:xfrm>
              <a:off x="5699880" y="188568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_s1038"/>
            <p:cNvSpPr/>
            <p:nvPr/>
          </p:nvSpPr>
          <p:spPr>
            <a:xfrm>
              <a:off x="5699880" y="346968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AutoShape 31"/>
            <p:cNvSpPr/>
            <p:nvPr/>
          </p:nvSpPr>
          <p:spPr>
            <a:xfrm>
              <a:off x="7238520" y="213228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0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F728-2F53-4204-8586-3B014367A7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w Cen MT"/>
              </a:rPr>
              <a:t>НАУЧНОМ МЕТОД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ДЕНТИФИКОВАЊЕ ПРОБЛЕМ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ИКУПЉАЊЕ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ЕВАЛУАЦИЈА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ЕПОРУК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Х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62924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ПОРЕД ТОГА НА ДОНОШЕЊЕ ОДЛУКА УТИЧ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КУСТВ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АУТОРИТЕ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ТРАЖИВ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ЛОГИЧКО РАЗМИШЉ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038-2171-407B-BB38-927FA64A32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D1D-0AA4-490B-A1B0-CCB664533D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У РАД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А БОЛЕС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А СЕ СПОНТАНО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КОЈЕ МОРАМО 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ВА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НА ОСНОВ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И </a:t>
            </a:r>
            <a:r>
              <a:rPr b="1" i="1" lang="ru-RU" sz="2400" spc="-1" strike="noStrike">
                <a:solidFill>
                  <a:srgbClr val="ff0000"/>
                </a:solidFill>
                <a:latin typeface="Tw Cen MT"/>
              </a:rPr>
              <a:t>ПОСТАВЉАМО ПИТАЊ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КОЈА ПОТОМ 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О ОДГОВОР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СЕ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СТАВЉ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ЗЕ БОЛЕ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ТКР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ЊЕНОГ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РО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СТ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К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ЕТОДА КОЈЕ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 НАЈПРЕ ДОВЕСТИ ДО ДИЈАГНОЗ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НА Л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А 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РОГНОЗЕ ЛЕЧЕЊА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083-ECC5-45C7-8C74-17F01421AB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Tw Cen MT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ПЛАНИРА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С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Х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АЛТЕРНАТИВ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517-C4F3-4273-A84D-C51E5493CF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Е СВЕГА ТРЕБА ПРЕ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Т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БАЗЕ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НА ИНТЕРНЕТ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Е САДР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 СИСТЕМАТСКЕ ПРЕГЛЕДН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ЛАНКЕ О ПОЈЕДИНИМ КЛИ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ИМ ПРОБЛЕМИМ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НАЈПОУЗДАНИЈА ОД ТАКВИХ БАЗА ЈЕ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КОХРАНОВА БАЗА ПОДАТА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A1E-B423-42B6-9AD0-10B1E78B70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.Milovanovic</dc:creator>
  <dc:description/>
  <dc:language>en-US</dc:language>
  <cp:lastModifiedBy>User</cp:lastModifiedBy>
  <dcterms:modified xsi:type="dcterms:W3CDTF">2019-02-10T07:58:3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